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19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2A0-3E84-456E-B20C-47EF9F94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E315-5A6B-47D5-BD03-499616FF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BA6F-4D6A-444F-AEB7-982681EC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C0F0-8678-4FA3-B57A-666C37E0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21F-C737-450E-B922-8DB65F8D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CAE-1CF4-40B2-87C6-D63AB5B3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1BE2-970E-4ABE-8BE7-99B0EBBC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4C2-A37F-458D-893C-081DC0BA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2D9-EFF1-41E0-8EB1-62CC2E6C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903-221B-410E-998F-CAFFFB73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DFC5-00FA-48E9-AB2C-FDAA772B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E72B-D687-4065-B939-60E1F7EE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9C10-3CEE-41E7-B574-3389A6820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youtube.com/watch?v=mMGrIwLj7gU&amp;feature=related" TargetMode="External"/><Relationship Id="rId4" Type="http://schemas.openxmlformats.org/officeDocument/2006/relationships/hyperlink" Target="http://www.youtube.com/watch?v=QdpEaPxNW0g&amp;feature=related" TargetMode="External"/><Relationship Id="rId5" Type="http://schemas.openxmlformats.org/officeDocument/2006/relationships/hyperlink" Target="http://www.youtube.com/watch?v=mReH_vgrf-U&amp;feature=related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kronstadt-uprising.co.uk/html/artwork.htm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Communist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labour"/>
          <p:cNvPicPr/>
          <p:nvPr/>
        </p:nvPicPr>
        <p:blipFill>
          <a:blip r:embed="rId1"/>
          <a:stretch/>
        </p:blipFill>
        <p:spPr>
          <a:xfrm>
            <a:off x="0" y="0"/>
            <a:ext cx="3809880" cy="271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flag_33_1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180828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838080" y="52578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youtube.com/watch?v=mMGrIwLj7gU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youtube.com/watch?v=QdpEaPxNW0g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youtube.com/watch?v=mReH_vgrf-U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cals and Revolution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Urban Radicals created two compet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Revolution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volution will start from the Peasant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Democr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ban Poor would start the new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dimir L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90560" y="106632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xist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Social Democrat (poor urban class would initiate the Revolution together w/a small cad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ther (radical) was killed by Alexander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pite weak Support Lenin and his followers manage to take control of Russia in October 19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1921 suffers stroke, 1924 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lenin-good"/>
          <p:cNvPicPr/>
          <p:nvPr/>
        </p:nvPicPr>
        <p:blipFill>
          <a:blip r:embed="rId1"/>
          <a:stretch/>
        </p:blipFill>
        <p:spPr>
          <a:xfrm>
            <a:off x="0" y="0"/>
            <a:ext cx="2390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lsheviks and Menshiv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Democrats split into 2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in leads the Bolshevi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sheviks (majority) believe the time has come for the Revolution and a small group would overthrow the Czar and create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DICTATORSHIP OF THE PROLETE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mage002"/>
          <p:cNvPicPr/>
          <p:nvPr/>
        </p:nvPicPr>
        <p:blipFill>
          <a:blip r:embed="rId1"/>
          <a:stretch/>
        </p:blipFill>
        <p:spPr>
          <a:xfrm>
            <a:off x="5562720" y="4729320"/>
            <a:ext cx="35812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05 Revolution- Bloody Su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44953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ing more rights 200,000 workers march on the Czar’s Pa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s fire on the crowd, 500-1000 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ward strikes spread through the country and a demand for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bloody%20sunday"/>
          <p:cNvPicPr/>
          <p:nvPr/>
        </p:nvPicPr>
        <p:blipFill>
          <a:blip r:embed="rId1"/>
          <a:stretch/>
        </p:blipFill>
        <p:spPr>
          <a:xfrm>
            <a:off x="2057400" y="609480"/>
            <a:ext cx="54864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0" y="6091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arliament is created- “Dum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2895480"/>
            <a:ext cx="83059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zar Nicholas II new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Manifesto of 1905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 Parliament was created- called the D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icholas II will begin a more oppressive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ReformInRussia"/>
          <p:cNvPicPr/>
          <p:nvPr/>
        </p:nvPicPr>
        <p:blipFill>
          <a:blip r:embed="rId1"/>
          <a:stretch/>
        </p:blipFill>
        <p:spPr>
          <a:xfrm>
            <a:off x="0" y="0"/>
            <a:ext cx="44956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ied with Great Britain, Serbia and France- Russia entered WWI- Allied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 prepared and lacking in industrialization Russia saw much death and destruction on the battle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ussians were killed in WWI than any other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ges on major cities led to famine and c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nge advi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putin, a mystic monk began to advise Nicholas wife (Alexand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d the Czarina to not allow re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putin is famous in part for the various ways he was ultimately killed- poisoned (survived), shot (survived), thrown into icy waters (di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Rasputin"/>
          <p:cNvPicPr/>
          <p:nvPr/>
        </p:nvPicPr>
        <p:blipFill>
          <a:blip r:embed="rId1"/>
          <a:stretch/>
        </p:blipFill>
        <p:spPr>
          <a:xfrm>
            <a:off x="228600" y="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ww_rasputin_01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cholas II and Alexandria- Abdi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ots over the price of bread, together with demands for new leadership because of the lack of food and coal cause Czar to leave the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SIONAL GOVERNMENT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a led by moderates and conservatives (Constitutional Democrats- Menshiviks also invol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 Kerensky led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xander Kerens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Revolu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 the War against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sants began to desert the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kerensky"/>
          <p:cNvPicPr/>
          <p:nvPr/>
        </p:nvPicPr>
        <p:blipFill>
          <a:blip r:embed="rId1"/>
          <a:stretch/>
        </p:blipFill>
        <p:spPr>
          <a:xfrm>
            <a:off x="0" y="0"/>
            <a:ext cx="2038320" cy="3048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kerensky"/>
          <p:cNvPicPr/>
          <p:nvPr/>
        </p:nvPicPr>
        <p:blipFill>
          <a:blip r:embed="rId2"/>
          <a:stretch/>
        </p:blipFill>
        <p:spPr>
          <a:xfrm>
            <a:off x="5334120" y="3817800"/>
            <a:ext cx="380988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in Retu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led and living in Switzerland, through the help of Germany (at war with Russia) is secretly brought back into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 little popular support amongst Russ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attempted coup fails, goes to 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lenin-good"/>
          <p:cNvPicPr/>
          <p:nvPr/>
        </p:nvPicPr>
        <p:blipFill>
          <a:blip r:embed="rId1"/>
          <a:stretch/>
        </p:blipFill>
        <p:spPr>
          <a:xfrm>
            <a:off x="0" y="0"/>
            <a:ext cx="2390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295280" y="533520"/>
            <a:ext cx="5639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380880" y="53352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to P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o did Marx think would start a Rev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at was Russia’s political and economic situation prior to the rev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y was the Czar so unpopu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What factors made the Russian Revolution successf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What were the obstacles to Rev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How would you assess the success of the Communist government between 1921 and the 1930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PEACE, LAND AND BREAD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my General tries to tak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Lenin and Bolsheviks gain popular support for defending Petrograd (St. Petersburg, and for 70 years, Leningr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Victory fuels popular support of Bolshevi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m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ctober 1917, the Bolsheviks threaten to fire shells at the Provisional Government- the mere threat leads to the takeover by the Commun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potemkin%20photo%202"/>
          <p:cNvPicPr/>
          <p:nvPr/>
        </p:nvPicPr>
        <p:blipFill>
          <a:blip r:embed="rId1"/>
          <a:stretch/>
        </p:blipFill>
        <p:spPr>
          <a:xfrm>
            <a:off x="1371600" y="2905200"/>
            <a:ext cx="5715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ELECTION RESULTS – BOLSHEVIKS LOSE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Before the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Bolsheviks take government off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ruce signed with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Land Reform begins- Redistribution of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OCTOBER 1917- FIRST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BOLSHEVIKS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LENIN AND COLLEAGUES CANCEL ELEC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 Trots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447560"/>
            <a:ext cx="647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llow leader of the Bolsheviks- Active since the 1905 Revolution (Bloody Sun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o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in’s right hand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led with Stalin for power after Lenin’s death- many feared he would become a dic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lin won- Trotsky escaped to Mexico City, later killed their by agents of Stalin’s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144"/>
          <p:cNvPicPr/>
          <p:nvPr/>
        </p:nvPicPr>
        <p:blipFill>
          <a:blip r:embed="rId1"/>
          <a:stretch/>
        </p:blipFill>
        <p:spPr>
          <a:xfrm>
            <a:off x="155520" y="46080"/>
            <a:ext cx="21430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sef Stalin-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ad, Bad and S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19360" y="1676520"/>
            <a:ext cx="42670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d the Soviet Union from 1924-19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itarian and ruthless leader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d to have killed between 10 and 20 millio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ous for his “purg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stalin"/>
          <p:cNvPicPr/>
          <p:nvPr/>
        </p:nvPicPr>
        <p:blipFill>
          <a:blip r:embed="rId1"/>
          <a:stretch/>
        </p:blipFill>
        <p:spPr>
          <a:xfrm>
            <a:off x="0" y="1438200"/>
            <a:ext cx="435276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year Civil War, Red Army v. White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Army were Commun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 and other countries try to stop the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ts 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onstadt upris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esson learned! </a:t>
            </a:r>
            <a:br>
              <a:rPr sz="4000"/>
            </a:b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900"/>
            </a:b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shevik Sailors Revolt against the new communist Government (March 19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Free Elections, Speech and Abolition of the Secret 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Brutally crushes the Rebe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munist Government is beginning to look as bad or worse than the Cz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7760" y="2743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conomic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362320" y="1523880"/>
            <a:ext cx="6324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in changes course- Mixture of Capitalism and Soc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i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s can buy and sell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ivate busines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in becomes disabled with several strokes and later dies w/his death also goes the N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u1s6_9_1"/>
          <p:cNvPicPr/>
          <p:nvPr/>
        </p:nvPicPr>
        <p:blipFill>
          <a:blip r:embed="rId1"/>
          <a:stretch/>
        </p:blipFill>
        <p:spPr>
          <a:xfrm>
            <a:off x="0" y="0"/>
            <a:ext cx="2343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st “theolo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rr13b"/>
          <p:cNvPicPr/>
          <p:nvPr/>
        </p:nvPicPr>
        <p:blipFill>
          <a:blip r:embed="rId1"/>
          <a:stretch/>
        </p:blipFill>
        <p:spPr>
          <a:xfrm>
            <a:off x="838080" y="1371600"/>
            <a:ext cx="68580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nin’s Death lea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a power strug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8763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lin will be Victorious, takes Absolute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itarian Government becomes Perma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LeninDies"/>
          <p:cNvPicPr/>
          <p:nvPr/>
        </p:nvPicPr>
        <p:blipFill>
          <a:blip r:embed="rId1"/>
          <a:stretch/>
        </p:blipFill>
        <p:spPr>
          <a:xfrm>
            <a:off x="0" y="0"/>
            <a:ext cx="2762280" cy="2057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Stalin1sm"/>
          <p:cNvPicPr/>
          <p:nvPr/>
        </p:nvPicPr>
        <p:blipFill>
          <a:blip r:embed="rId2"/>
          <a:stretch/>
        </p:blipFill>
        <p:spPr>
          <a:xfrm>
            <a:off x="2362320" y="3505320"/>
            <a:ext cx="47242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zars of Russia- 19th Cent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19-g-FS"/>
          <p:cNvPicPr/>
          <p:nvPr/>
        </p:nvPicPr>
        <p:blipFill>
          <a:blip r:embed="rId1"/>
          <a:stretch/>
        </p:blipFill>
        <p:spPr>
          <a:xfrm>
            <a:off x="228600" y="1828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251460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ander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0101-matte"/>
          <p:cNvPicPr/>
          <p:nvPr/>
        </p:nvPicPr>
        <p:blipFill>
          <a:blip r:embed="rId2"/>
          <a:stretch/>
        </p:blipFill>
        <p:spPr>
          <a:xfrm>
            <a:off x="0" y="434340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2286000" y="60786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ander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tzar"/>
          <p:cNvPicPr/>
          <p:nvPr/>
        </p:nvPicPr>
        <p:blipFill>
          <a:blip r:embed="rId3"/>
          <a:stretch/>
        </p:blipFill>
        <p:spPr>
          <a:xfrm>
            <a:off x="5029200" y="3886200"/>
            <a:ext cx="3809880" cy="25430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2"/>
          <p:cNvSpPr/>
          <p:nvPr/>
        </p:nvSpPr>
        <p:spPr>
          <a:xfrm>
            <a:off x="5486400" y="6553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holas II and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nickolas1"/>
          <p:cNvPicPr/>
          <p:nvPr/>
        </p:nvPicPr>
        <p:blipFill>
          <a:blip r:embed="rId4"/>
          <a:stretch/>
        </p:blipFill>
        <p:spPr>
          <a:xfrm>
            <a:off x="155520" y="46080"/>
            <a:ext cx="1381320" cy="15904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5"/>
          <p:cNvSpPr/>
          <p:nvPr/>
        </p:nvSpPr>
        <p:spPr>
          <a:xfrm>
            <a:off x="1600200" y="380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holas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FF15"/>
          <p:cNvPicPr/>
          <p:nvPr/>
        </p:nvPicPr>
        <p:blipFill>
          <a:blip r:embed="rId5"/>
          <a:stretch/>
        </p:blipFill>
        <p:spPr>
          <a:xfrm>
            <a:off x="7261200" y="914400"/>
            <a:ext cx="1882800" cy="2819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8"/>
          <p:cNvSpPr/>
          <p:nvPr/>
        </p:nvSpPr>
        <p:spPr>
          <a:xfrm>
            <a:off x="5562720" y="32767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ander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3048120" y="1371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cratic leaders- some such as Alexander II were more enlightened than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otalitarian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all tools available to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ship of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 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fair leg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nda: Po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, Movies, Spee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stalin_propaganda1"/>
          <p:cNvPicPr/>
          <p:nvPr/>
        </p:nvPicPr>
        <p:blipFill>
          <a:blip r:embed="rId1"/>
          <a:stretch/>
        </p:blipFill>
        <p:spPr>
          <a:xfrm>
            <a:off x="5791320" y="1933560"/>
            <a:ext cx="33526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nd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dic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 price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will b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ff"/>
                </a:solidFill>
                <a:latin typeface="Arial"/>
              </a:rPr>
              <a:t>Shortages and Oversupplies become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ff"/>
                </a:solidFill>
                <a:latin typeface="Arial"/>
              </a:rPr>
              <a:t>Workers have little to no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ff"/>
                </a:solidFill>
                <a:latin typeface="Arial"/>
              </a:rPr>
              <a:t>Consumers are given little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dws-t-is-one-Communism"/>
          <p:cNvPicPr/>
          <p:nvPr/>
        </p:nvPicPr>
        <p:blipFill>
          <a:blip r:embed="rId1"/>
          <a:stretch/>
        </p:blipFill>
        <p:spPr>
          <a:xfrm>
            <a:off x="5867280" y="1371600"/>
            <a:ext cx="26290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BUILD THE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5 Year Pla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talin devises several 5 year plans to make the Soviet Union an Industrial Power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Infrastructure, Railroads, Mines, Oil and Electrical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v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Europe and America undergo a Horrible Economic Depression as the Soviet Union moves forward at a rapid pac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29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lin forced Millions of people off their family farms and made enormous farms which the Government Ow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ions were forced to move away, especially in the western Soviet area called the Ukr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d deaths due to starvation are in the Mill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img0022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igure01"/>
          <p:cNvPicPr/>
          <p:nvPr/>
        </p:nvPicPr>
        <p:blipFill>
          <a:blip r:embed="rId2"/>
          <a:stretch/>
        </p:blipFill>
        <p:spPr>
          <a:xfrm>
            <a:off x="0" y="0"/>
            <a:ext cx="306720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zar’s Palace- Hermi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viewofhermitage"/>
          <p:cNvPicPr/>
          <p:nvPr/>
        </p:nvPicPr>
        <p:blipFill>
          <a:blip r:embed="rId1"/>
          <a:stretch/>
        </p:blipFill>
        <p:spPr>
          <a:xfrm>
            <a:off x="1295280" y="1438200"/>
            <a:ext cx="66294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ncipation of Serfs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e at La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61 Alexander II Ends Serfdom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erfs remain poor peas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fdom was still powerful in the mid-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in Russia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bles could even exile serfs to SIBERIA (later communist leaders did the same to crit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er II (enlightened despot?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ve more rights to those accused of cr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0101-matte"/>
          <p:cNvPicPr/>
          <p:nvPr/>
        </p:nvPicPr>
        <p:blipFill>
          <a:blip r:embed="rId1"/>
          <a:stretch/>
        </p:blipFill>
        <p:spPr>
          <a:xfrm>
            <a:off x="0" y="0"/>
            <a:ext cx="1593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te of the Assassination of Alexander II (188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2895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rchists kill the C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’s son- (yes Alexander III) responded by ruling with an Iron F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1477855-Church_of_the_Bleeding_Savior-Saint_Petersburg"/>
          <p:cNvPicPr/>
          <p:nvPr/>
        </p:nvPicPr>
        <p:blipFill>
          <a:blip r:embed="rId1"/>
          <a:stretch/>
        </p:blipFill>
        <p:spPr>
          <a:xfrm>
            <a:off x="3505320" y="190512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3505320" y="5942160"/>
            <a:ext cx="53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rch of the Blood of the Savior was erected on this site to commemorate Alexander II’s assass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OCRACY, ORTHODOX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NATI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er (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De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Autocratic Rule – Power of the Czar is absol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ce with the Russian Orthodox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ressing ethnic groups that act “non-Russia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FF15"/>
          <p:cNvPicPr/>
          <p:nvPr/>
        </p:nvPicPr>
        <p:blipFill>
          <a:blip r:embed="rId1"/>
          <a:stretch/>
        </p:blipFill>
        <p:spPr>
          <a:xfrm>
            <a:off x="7261200" y="0"/>
            <a:ext cx="1882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werful Russian Orthodox Church supported the Czar and the Czar supported the Chu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tInnocent"/>
          <p:cNvPicPr/>
          <p:nvPr/>
        </p:nvPicPr>
        <p:blipFill>
          <a:blip r:embed="rId1"/>
          <a:stretch/>
        </p:blipFill>
        <p:spPr>
          <a:xfrm>
            <a:off x="3276720" y="2209680"/>
            <a:ext cx="2543040" cy="352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R11"/>
          <p:cNvPicPr/>
          <p:nvPr/>
        </p:nvPicPr>
        <p:blipFill>
          <a:blip r:embed="rId2"/>
          <a:stretch/>
        </p:blipFill>
        <p:spPr>
          <a:xfrm>
            <a:off x="6067440" y="4619520"/>
            <a:ext cx="3076560" cy="2238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250px-St_Basils_Cathedral_closeup"/>
          <p:cNvPicPr/>
          <p:nvPr/>
        </p:nvPicPr>
        <p:blipFill>
          <a:blip r:embed="rId3"/>
          <a:stretch/>
        </p:blipFill>
        <p:spPr>
          <a:xfrm>
            <a:off x="380880" y="3124080"/>
            <a:ext cx="23814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cholas II- “The Last Czar”- Moving into the 2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 Revolution in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lists- Tolsto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ar and Pe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rs- Tchaikov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banization and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ns and Cities grow- factory production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policy to lend money to invest in new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ign investment increased- Trans Siberian Railroad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tzar"/>
          <p:cNvPicPr/>
          <p:nvPr/>
        </p:nvPicPr>
        <p:blipFill>
          <a:blip r:embed="rId1"/>
          <a:stretch/>
        </p:blipFill>
        <p:spPr>
          <a:xfrm>
            <a:off x="6019920" y="1216080"/>
            <a:ext cx="29718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6:48:53Z</dcterms:created>
  <dc:creator>Darien Public Schools</dc:creator>
  <dc:description/>
  <dc:language>en-US</dc:language>
  <cp:lastModifiedBy>Local User</cp:lastModifiedBy>
  <dcterms:modified xsi:type="dcterms:W3CDTF">2014-05-22T12:57:37Z</dcterms:modified>
  <cp:revision>24</cp:revision>
  <dc:subject/>
  <dc:title>Russia</dc:title>
</cp:coreProperties>
</file>